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A75-1B1E-4102-8F7E-4E1D5172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528-4EDB-4999-BF64-DABE3DAF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1A9-3123-41F3-942F-5919B4F3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1F5-4539-4C9C-8FD5-E79A32E1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AF54-F309-478C-AE26-09ADA726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772C-DA69-42C5-8ECD-A5FF3B59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3428-22A9-4163-BFA3-3D757A03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5D74-3B1D-4235-9E22-AB1FF67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09F5-6773-46A8-A281-79D85628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C64E-52C6-4A47-BB04-2F10A2FB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482B-158F-4B70-A2AD-D0860D5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C78-9AE5-4B3D-A80C-51BD6DD1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873E-0DBB-4879-9D31-E541C1F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1D37-1B1A-432B-A521-4A2CA673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88CE-C66B-4855-BE6E-6508F906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D0DD-4BCA-47F1-A0AD-41CCFA05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9015-20D2-47FC-9FA1-93398A13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19D-2F96-4327-B26A-F097E1A9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18C-16EB-417D-95F4-31DAEA99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14A5-4D99-489A-A305-19088360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D6F-9BA7-4AD3-A39C-B1A0820D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78DC-226D-4C09-8792-9B9FC72D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B870-5433-4247-8CB1-7E25A322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7B91-C836-4E2B-8D04-3693514B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1EF1-7DBB-47A1-B233-10D2A0FC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9600-63B5-4158-AF8F-4A1AF851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635AB-EE89-441C-9EB1-B539C200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92F1-E108-4A9C-A5DD-8EE0AA4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82E1-74A0-4D09-9302-A706296F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CC23-C8E2-4A19-972D-CF44D1DD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0FB2-91CE-4895-8800-FDF3AE5C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6D6-F971-40D7-9FAD-0869742E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B204B-86AA-47DD-A2DA-5320658C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DA0-326E-491E-94B7-BAA8DF93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524-AF65-4B20-B590-1ECC316F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FC1-AE8F-4E3B-ADB0-566E2084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B176D-00E4-470F-8D4D-E24CE22F55F2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B0E27-2F47-4602-BBB7-32F0EA80CEDD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C8E46-367B-4386-84DA-08843E2D08C1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9BE3F-8998-40C3-83A3-7BBADB9917B3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10FB8-458F-4928-8CDA-09D9D7968361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D8CB2-68FF-4ADC-BF1C-E1DEAD842DF9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6000" y="739800"/>
            <a:ext cx="851364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8d9ab3"/>
                </a:solidFill>
                <a:latin typeface="Century Gothic"/>
              </a:rPr>
              <a:t>The Final Days</a:t>
            </a:r>
            <a:endParaRPr b="0" lang="en-US" sz="100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04" name="Picture 3" descr="images.jpg"/>
          <p:cNvPicPr/>
          <p:nvPr/>
        </p:nvPicPr>
        <p:blipFill>
          <a:blip r:embed="rId2"/>
          <a:stretch/>
        </p:blipFill>
        <p:spPr>
          <a:xfrm>
            <a:off x="2590920" y="3659040"/>
            <a:ext cx="3886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Public Opinion 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eople were angry and tired of the wa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ry expensiv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any casualti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No end in sigh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1227240"/>
            <a:ext cx="36576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f03"/>
                </a:solidFill>
                <a:latin typeface="Century Gothic"/>
              </a:rPr>
              <a:t>Election of 1864</a:t>
            </a:r>
            <a:endParaRPr b="0" lang="en-US" sz="36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08" name="Picture Placeholder 11" descr="images1.jpg"/>
          <p:cNvPicPr/>
          <p:nvPr/>
        </p:nvPicPr>
        <p:blipFill>
          <a:blip r:embed="rId2"/>
          <a:srcRect l="0" t="-34731" r="0" b="-34731"/>
          <a:stretch/>
        </p:blipFill>
        <p:spPr>
          <a:xfrm rot="193800">
            <a:off x="4844520" y="976320"/>
            <a:ext cx="3497400" cy="4746600"/>
          </a:xfrm>
          <a:prstGeom prst="rect">
            <a:avLst/>
          </a:prstGeom>
          <a:ln cap="sq" w="1778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31800" y="1800360"/>
            <a:ext cx="36576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54638c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Lincoln runs for re-election for the Republican Par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4638c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Democrats nominate General George McClella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McClellan Gains Momentum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en. McClellan promises to stop hostilities and negotiate peace with the Confederates to restore the Union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ow would that have worked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incoln fears that he will los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 am going to be beaten.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herman and Grant win i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1440" y="2057400"/>
            <a:ext cx="3863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eanwhile, Gen. Sherman was in the middle of his “March to the Sea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ampaged through Georgia, then up the coast into South Caroli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ant was battling Lee in Virgin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ege of Petersburg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ways public opinion about the w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Content Placeholder 4" descr="images2.jpg"/>
          <p:cNvPicPr/>
          <p:nvPr/>
        </p:nvPicPr>
        <p:blipFill>
          <a:blip r:embed="rId2"/>
          <a:srcRect l="0" t="-29740" r="0" b="-29740"/>
          <a:stretch/>
        </p:blipFill>
        <p:spPr>
          <a:xfrm>
            <a:off x="4495680" y="1828800"/>
            <a:ext cx="441972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31800" y="1720800"/>
            <a:ext cx="3657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f03"/>
                </a:solidFill>
                <a:latin typeface="Century Gothic"/>
              </a:rPr>
              <a:t>Lincoln Wins!</a:t>
            </a:r>
            <a:endParaRPr b="0" lang="en-US" sz="36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16" name="Content Placeholder 4" descr="images3.jpg"/>
          <p:cNvPicPr/>
          <p:nvPr/>
        </p:nvPicPr>
        <p:blipFill>
          <a:blip r:embed="rId2"/>
          <a:srcRect l="0" t="-70374" r="0" b="-70374"/>
          <a:stretch/>
        </p:blipFill>
        <p:spPr>
          <a:xfrm>
            <a:off x="4114800" y="0"/>
            <a:ext cx="5029200" cy="7199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1800" y="2878200"/>
            <a:ext cx="365760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mmediately, Lincoln passes the 1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mendment, permanently ending slaver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Less voters? 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5040" y="1546200"/>
            <a:ext cx="38685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d9ab3"/>
                </a:solidFill>
                <a:latin typeface="Century Gothic"/>
              </a:rPr>
              <a:t>186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30360" y="2147760"/>
            <a:ext cx="3868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,685,561 total vo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03 electoral college vo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160" y="1544760"/>
            <a:ext cx="386712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d9ab3"/>
                </a:solidFill>
                <a:latin typeface="Century Gothic"/>
              </a:rPr>
              <a:t>186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64160" y="2147760"/>
            <a:ext cx="38671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,031,887 total vo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34 electoral vo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The South Surrender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24" name="Content Placeholder 4" descr="images4.jpg"/>
          <p:cNvPicPr/>
          <p:nvPr/>
        </p:nvPicPr>
        <p:blipFill>
          <a:blip r:embed="rId2"/>
          <a:srcRect l="0" t="-26702" r="0" b="-26702"/>
          <a:stretch/>
        </p:blipFill>
        <p:spPr>
          <a:xfrm>
            <a:off x="631800" y="2057400"/>
            <a:ext cx="3863880" cy="4068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660920" y="2057400"/>
            <a:ext cx="38685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ee surrenders on April 9, 1865 to General G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ant allows Lee to keep his sword, and all Confederate soldiers may keep their hors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ant also declares that they will not prosecute any Confederate soldiers for treaso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1440" y="4330440"/>
            <a:ext cx="790740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f03"/>
                </a:solidFill>
                <a:latin typeface="Century Gothic"/>
              </a:rPr>
              <a:t>Bittersweet Victory</a:t>
            </a:r>
            <a:endParaRPr b="0" lang="en-US" sz="36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2880" y="5257800"/>
            <a:ext cx="7905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pril 14, 1865 – President Lincoln is assassinated by John Wilkes Booth at Ford’s Theat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Picture Placeholder 4" descr="images5.jpg"/>
          <p:cNvPicPr/>
          <p:nvPr/>
        </p:nvPicPr>
        <p:blipFill>
          <a:blip r:embed="rId2"/>
          <a:srcRect l="-6265" t="0" r="-6265" b="0"/>
          <a:stretch/>
        </p:blipFill>
        <p:spPr>
          <a:xfrm rot="318600">
            <a:off x="2076480" y="741240"/>
            <a:ext cx="4913280" cy="3240360"/>
          </a:xfrm>
          <a:prstGeom prst="rect">
            <a:avLst/>
          </a:prstGeom>
          <a:ln cap="sq" w="1778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1:48:23Z</dcterms:created>
  <dc:creator>Moffa, David</dc:creator>
  <dc:description/>
  <dc:language>en-US</dc:language>
  <cp:lastModifiedBy>Moffa, David</cp:lastModifiedBy>
  <dcterms:modified xsi:type="dcterms:W3CDTF">2011-03-23T12:23:38Z</dcterms:modified>
  <cp:revision>14</cp:revision>
  <dc:subject/>
  <dc:title>The Final Days</dc:title>
</cp:coreProperties>
</file>